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A89-C855-4B52-9FE3-E80C2BEB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394-DB4F-4BC2-896F-B7C83124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80E-F08C-4449-BE10-546B0EC5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9E7-515F-4461-8A3E-1A20FB43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BE23-8BE9-4B11-9F85-601F6414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F07D-20E6-4210-ACD0-7968D635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1D8C-60A1-4E02-A5BC-0B210005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7804-9040-4D98-9D66-A7B222B3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0CEC-FD94-4C4A-B4E2-D98C919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7F5-32FB-4396-8666-071DCE60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6040-6685-42E5-AD08-F6DB481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508-A04D-40E8-9B68-EA3A550D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9A75-8926-472B-9DF3-D61BC17D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B280-CD74-4032-AC13-9C3F3413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7A68-75DE-4E3E-8116-20D349F7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8DF6-4A1E-4500-9B3F-91B2B86E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CB37-3465-4B72-B683-4024DF74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8AD74-E86C-41CC-B5FA-4A7CF72D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E5CF6-08BB-4469-AB04-FEC95F89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B07E7-474A-4CAA-9289-E800C734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510F1-0893-4849-9159-0619A5AD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E3646-4417-4FCD-9F99-4307944B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CAB-470A-46B4-93D0-C817EA26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7808E-70B7-4C9E-ABD6-28088A74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FA768-F285-40A5-A35B-6FC6C86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EB706-5C20-435C-AD63-E867005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F53BC-E0FB-4F5E-AC81-82C7B522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E6429-60D6-473A-B31A-C173CD6A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AC5FC-06CB-4494-973C-014BE3EC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81BBB-3A9E-4B84-93D1-817AA936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7DDB-8C9E-4D13-8701-3D0F253C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8AB7-9804-47AF-AC5A-CA10B584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FEAF-7FC9-478B-AF02-15759502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BC3-16D8-4FA6-B869-0733E0AC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E54C-002A-4D1B-A30B-6F992110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B607-9BF1-4077-9D21-DE6BA528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B026-416B-4F93-BFFE-F52344F3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405F-D2F7-4D08-8C20-15728A4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53547-818E-496F-81C2-AB6485FA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3577-33BE-4F0B-AE4C-1B0B88A3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3702E-C474-4B59-BC90-F6BA73D2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0AEA6-8DB1-4B70-8416-58011CF9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FDDD-252A-427C-87E1-E835E731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B8577-552C-474B-B8A4-1D3C9FFE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8A2-038B-4494-9826-77FE2786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3C772-A48F-4C61-B557-1DC1DDE5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1656F-B63B-49EB-ABB2-79DCA6EA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E5882-7F77-4B63-AD5D-70BEE1CC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3F04F-17D0-4B7D-AEB7-4596BC84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0F837-1632-49F7-A66D-B47315C2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D079F-990F-457A-8979-88BCDA70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FA2DC-8A32-48A6-89D0-6795FCF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97B45-680E-40E9-BF3C-C8799B95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C7C6A-8E27-4E02-AE4B-2D8420D4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4F1A1-BB8D-4098-9B88-D1D3AA8A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6F1-CEB6-40E4-BF6C-0294CA37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2EE5A-D2BB-4983-AE12-5F9A92D8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1DFDC-1226-4DDF-B5EE-F061118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EA8D0-97BF-4B05-9BA7-4E5731F5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0C3BE-C9BB-4398-BF2C-C9EBEC1F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BD4C6-05B4-486E-AA98-B21861E5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451EB9-07DC-415C-890E-F626DC9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82B33-320E-4236-8307-7C277ACF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F6D62-523D-4E3D-BAF2-7CFC082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D5866-C3AA-4630-8144-2D4C15A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1BEFB-589D-4E50-A074-EFA0ED5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90B-1DA9-41EC-9AF4-2E94334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412DF-B7CA-4123-996E-F1FA580D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5ED51-04A8-487F-9568-B6A9FEF2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9AA1F-22B3-4F3A-A0FC-E8914C78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6A66C-DDD3-4EB6-9164-99E6F67B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DC9F6-44DB-41B3-86E7-6E58A73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B4DAD-43F0-44CB-80D6-3FE413CF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AC292-55D6-4167-BC75-52C77A35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09224-8442-4726-9FAB-13F1B175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7E166-94E5-47DE-9AD3-CF28F4E1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636F4-FF5B-4D2D-A922-D093BE5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611-8473-4DFF-A6DB-81EF76F1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4F855-0890-4F4E-9EFF-A3CD9E9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067CD-AE12-46D5-A46F-973591D2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ECFB0-AAA0-4EBC-9283-38377225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41F7B-354C-4A0D-81A3-C47A1A05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73DD8-9AC1-4E67-88E1-C8C9EEF3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82F-73A5-4910-905F-14409EB6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C485-6167-4540-8D68-2095370820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3318-6EE4-43C0-BECB-CC87E5A7F4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7608-F1E1-4FA7-9AF0-C494F36E13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B733-13F0-4B0C-A83D-60BF42C2E6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9712-9980-428E-809F-9C6D60340C7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96BC-30F2-4267-BD1E-184E54F90E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6CF5-61B8-45D2-A70B-9C848BA21C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4936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i="1" lang="ru-RU" sz="1400" spc="-1" strike="noStrike" u="sng">
                <a:solidFill>
                  <a:srgbClr val="575f6d"/>
                </a:solidFill>
                <a:uFillTx/>
                <a:latin typeface="Century Schoolbook"/>
              </a:rPr>
              <a:t>ЛЕКЦИЯ </a:t>
            </a:r>
            <a:br>
              <a:rPr sz="32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1700280"/>
            <a:ext cx="61722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МЕТОДЫ И МЕТОДОЛОГИЯ НАУЧНОГО ИССЛЕДОВА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1. </a:t>
            </a: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68280"/>
            <a:ext cx="807552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и всеобщих методов научного исследования наиболее известными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иалектический и метафизическ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Эти методы могут быть связаны с различными философскими системами. Их называют общефилософск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иалект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сводится к познанию действительности в ее целостности, развитии и свойственных ей противоречия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иалект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(греч. – «веду беседу, рассуждаю»). Понятие «диалектика» Возникло в Древней Греции и первоначально означало способность вести спор в виде вопросов и от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Диалектика –</a:t>
            </a: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 учение о наиболее общих законах развития бытия и познания, а также основанный на этом учении метод творчески познающе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052280"/>
            <a:ext cx="80755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алектика выступает в единстве двух сторон – субъективной и объектив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Субъективная диалект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– развертывается в сознании субъекта как отражение связей и развития существующего независимо от человека и человечества объективного бытия –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иалектики объективн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Субъективная диалектика – теория развития мышления, познания, борьбы идей в науке, философии, разворачивающейся в сознании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Объективная диалект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– теория развития объективного бытия, существующего независимо от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467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 изучении предметов и явлений диалектика рекомендует исходить из следующих диалектических принципов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ссматривать изучаемые объекты в свете диалектических законов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динства и борьбы противоположностей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ехода количественных изменений в качественны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трицания отрица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2. Описывать, объяснять и прогнозировать изучаемые явления и процессы, опираясь на философские категории: общего, особенного и единичного; содержания и формы; сущности явления; возможности и действительности; необходимого и случайного; причины и следствия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. Относиться к объекту исследования как к объективной реа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ссматривать исследуемые предметы и явл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всесторонн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всеобщей связи и взаимозависим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епрерывном изменении, развит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кретно-историчес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верять полученные знания на прак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197000"/>
            <a:ext cx="8147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афиз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является противоположностью диалектическому. Примерно с середины XIX века метафизический метод вытесняется диалектическ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Метафизика –</a:t>
            </a: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метод познания, противоположный диалектике, рассматривающий явления обычно вне их взаимной связи, противоречий и развит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Характерные особенности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односторонность, абстрактность, абсолютизация того или иного момента в составе целого. Объекты рассматриваются вне их сложной связи с другими процессами, явлениями и тела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метафизики характерна статичность мышл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Метафизическа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нцеп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матривает развитие как только уменьшение или увеличение (т.е. как только количественные изменения) или как только качественные изменения без каких-либо количественных изменений, т.е.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трывает противоположности друг от друг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сточник развит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дит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только во внешнем воздействии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вещ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азвит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рассматривается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ли как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ижение по круг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или только как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ижение по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ходящей или нисходящей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ямой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т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 ОБЩЕНАУЧ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е общенаучные методы целесообразно распределить для анализа на три групп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1. Общелогически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2. Теоретически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3. Эмпирически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1. ОБЩЕЛОГИЧЕСКИЕ МЕТО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из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интез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ндукц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Дедукц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ог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нализ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это расчленение, разложение объекта исследования на составные части.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н лежит в основе аналитического метода исследован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новидностями анализ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классификация и периодизация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 анализа используется как в реальной, так и в мысли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ПОНЯТИЕ МЕТ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етод научного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— это способ познания объективной действительност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особ представляет собой определенную последовательность действий, приемов, операци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41000"/>
            <a:ext cx="8218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интез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соединение отдельных сторон, частей объекта исследования в единое целое, причем это не просто их соединение, но и познание нового — взаимодействия частей как целого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зультатом синтеза является совершенно новое образование, свойства которого не есть только внешнее соединение свойств компонентов, но также и результат их внутренней взаимосвязи и взаимозависим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341000"/>
            <a:ext cx="79311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ндукция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движение мысли (познания) от фактов, отдельных случаев к общему положению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уктивные умозаключения "наводят" на мысль, на общее.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 индуктивном методе исследования для получения общего знания о каком-либо классе предметов необходимо исследовать отдельные предметы, найти в них общие существенные признаки, которые послужат основой знания об общем признаке, присущем данному классу предм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едукц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выведение единичного, частного из какого-либо общего положения; движение мысли (познания) от общих утверждений к утверждениям об отдельных предметах или явления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средством дедуктивных умозаключений "выводят" определенную мысль из других мысл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41000"/>
            <a:ext cx="81471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налог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способ получения знаний о предметах и явлениях на основании того, что они имеют сходство с другими, из сходства изучаемых объектов в некоторых признаках делается заключение об их сходстве и в других признака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епень вероятности (достоверности) умозаключений по аналогии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ависит от количества сходных признаков у сравниваемых явлени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2. МЕТОДЫ ТЕОРЕТИЧЕСКОГО УРОВНЯ:</a:t>
            </a: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484280"/>
            <a:ext cx="7467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ксиоматический метод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Гипотетический метод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ормализац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бстрагировани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общени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схождение от абстрактного к конкретном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сторический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 системного анализ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ксиоматический метод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способ исследования, который состоит в том, что некоторые утверждения (аксиомы, постулаты) принимаются без доказательств и затем по определенным логическим правилам из них выводятся остальные зн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773000"/>
            <a:ext cx="80024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Гипотетический метод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способ исследования с использованием научной гипотезы, т. е. предположения о причине, которая вызывает данное следствие, или о существовании некоторого явления или предме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Формализация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отображение явления или предмета в знаковой форме какого-либо искусственного языка (например, логики, математики, химии) и изучение этого явления или предмета путем операций с соответствующими знака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искусственного формализованного языка в научном исследовании позволяет устранить такие недостатки естественного языка, как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ногознач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точ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определенность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 формализации вместо рассуждений об объектах исследования оперируют со знаками (формулами). Путем операций с формулами искусственных языков можно получать новые формулы, доказывать истинность какого-либо полож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125000"/>
            <a:ext cx="80024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бстра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мысленное отвлечение от некоторых свойств и отношений изучаемого предмета и выделение интересующих исследователя свойств и отношен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иды абстрагирования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entury Schoolbook"/>
              </a:rPr>
              <a:t>отожд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, т. е. выделение общих свойств и отношений изучаемых предметов, установление тождественного в них, абстрагирование от различий между ними, объединение предметов в особый класс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entury Schoolbook"/>
              </a:rPr>
              <a:t>изолирование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, т. е. выделение некоторых свойств и отношений, которые рассматриваются как самостоятельные предметы исследования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entury Schoolbook"/>
              </a:rPr>
              <a:t>абстракция потенциальной осуществимости, т.е.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 метод, применяемый в рамках идеи так называемой потенциальной бесконечности как процесса неограниченных количественных изменений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413000"/>
            <a:ext cx="78598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обще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установление общих свойств и отношений предметов и явлений, определение общего понятия, в котором отражены существенные, основные признаки предметов или явлений данного класс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месте с тем обобщение может выражаться в выделении не существенных, а любых признаков предмета или явления. Этот метод научного исследования опирается на философские категории общего, особенного и единично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002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entury Schoolbook"/>
              </a:rPr>
              <a:t>ОТ РАССМАТРИВАЕМОГО ПОНЯТИЯ МЕТОДА СЛЕДУЕТ ОТЛИЧАТЬ ПОНЯТИЯ ТЕХНИКИ, ПРОЦЕДУРЫ И МЕТОДИКИ НАУЧНОГО ИССЛЕДОВАНИЯ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484280"/>
            <a:ext cx="78598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хник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сследования понимают совокупность специальных приемов для использования того или иного мет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цедур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сследования понимают определенную последовательность действий, способ организации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это совокупность способов и приемов исследования, порядок их применения и интерпретация полученных с их помощью результа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197000"/>
            <a:ext cx="7931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сторический метод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лючается в выявлении исторических фактов и на этой основе в таком мысленном воссоздании исторического процесса, при котором раскрывается логика его движения. Он предполагает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зучение возникновения и развития объектов исследования в хронологической последова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0024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осхождение от абстрактного к конкретному как метод научного познан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лючается в том, что исследователь вначале находит главную связь изучаемого предмета (явления), затем прослеживает, как она видоизменяется в различных условиях, открывает новые связи и таким путем отображает во всей полноте его сущность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197000"/>
            <a:ext cx="7931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истемный метод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лючается в исследовании системы (т. е. определенной совокупности материальных или идеальных объектов), связей, ее компонентов и их связей с внешней средой. При этом выясняется, что эти взаимосвязи и взаимодействия приводят к возникновению новых свойств системы, которые отсутствуют у составляющих ее объ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анализе явлений и процессов в сложных системах рассматривают большое количество факторов (признаков), среди которых важно уметь выделить главное и исключить второстепен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3. 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писа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ч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измер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эксперимент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052280"/>
            <a:ext cx="79311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Наблюдение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— это способ познания, основанный на непосредственном восприятии свойств предметов и явлений при помощи органов чувств. В результате наблюдения исследователь получает знания о внешних свойствах и отношениях предметов и явлений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 зависимости от положения исследователя по отношению к объекту изучения, различают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стое и включенное наблюдение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вое заключается </a:t>
            </a: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в наблюдении со стороны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, когда исследователь — постороннее по отношению к объекту лицо, не являющееся участником деятельности наблюдаемы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торое характеризуется тем, что исследователь </a:t>
            </a: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открыто или инкогнито включается в группу и ее деятельность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качестве участни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наблюдение проводилось в естественной обстановке, то его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ев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а если условия окружающей среды, ситуация были специально созданы исследователем, то оно будет считаться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абораторн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ы наблюдения могут фиксироваться в протоколах, дневниках, карточках, на кинопленках и другими способ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268280"/>
            <a:ext cx="800244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писание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фиксация признаков исследуемого объекта, которые устанавливаются, например, путем наблюдения или измер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исание быва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посредственн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гда исследователь непосредственно воспринимает и указывает признаки объек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осредованн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гда исследователь отмечает признаки объекта, которые воспринимались другими лицами (например, характеристики НЛ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268280"/>
            <a:ext cx="78598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чет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800" spc="-1" strike="noStrike">
                <a:solidFill>
                  <a:srgbClr val="00b0f0"/>
                </a:solidFill>
                <a:latin typeface="Century Schoolbook"/>
              </a:rPr>
              <a:t>это определение количественных соотношений объектов исследования или параметров, характеризующих их свойств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широко применяется в статистике для определения степени и типа изменчивости явления, процесса, достоверности полученных средних величин и теоретических вывод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68280"/>
            <a:ext cx="7715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змерение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— это определение численного значения некоторой величины путем сравнения ее с эталоном. Измерение есть процедура определения численного значения некоторой величины посредством единицы измер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ность этой процедуры в том, что она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ает точные, количественные определенные и сведения об окружающей действи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жнейшим показателем качества измерения, его научной ценности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оч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торая зависит от усердия исследователя, главным образом от имеющихся измерительных приборов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268280"/>
            <a:ext cx="7715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равнени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сопоставление признаков, присущих двум или нескольким объектам, установление различия между ними пли нахождение в них общего, осуществляемое как органами чувств, так и с помощью специальных устройст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ОЛОГ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68280"/>
            <a:ext cx="7931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юбое научное исследование проводится соответствующими приемами и способами и по определенным правилам.  Учение о системе этих приемов, способов и правил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е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литературе под этим понятием подразумевается </a:t>
            </a:r>
            <a:r>
              <a:rPr b="1" lang="ru-RU" sz="2400" spc="-1" strike="noStrike">
                <a:solidFill>
                  <a:srgbClr val="00b0f0"/>
                </a:solidFill>
                <a:latin typeface="Century Schoolbook"/>
              </a:rPr>
              <a:t>совокупность методов, применяемых в какой-либо сфере деятельности (науке, политике и т. д.) и учение о научном методе позн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ждая наука имеет свою методологию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341000"/>
            <a:ext cx="80755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600" spc="-1" strike="noStrike">
                <a:solidFill>
                  <a:srgbClr val="00b0f0"/>
                </a:solidFill>
                <a:latin typeface="Century Schoolbook"/>
              </a:rPr>
              <a:t>Эксперимент</a:t>
            </a:r>
            <a:r>
              <a:rPr b="0" i="1" lang="ru-RU" sz="2600" spc="-1" strike="noStrike">
                <a:solidFill>
                  <a:srgbClr val="00b0f0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Century Schoolbook"/>
              </a:rPr>
              <a:t>— это искусственное воспроизведение явления, процесса в заданных условиях, в ходе которого проверяется выдвигаемая гипотез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ксперименты могут быть классифицированы по различным основаниям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о отраслям научных исследований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— физические, биологические, химические, социальные и т. д.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о характеру взаимодействия средства исследования с объектом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— обычные (экспериментальные средства непосредственно взаимодействуют с исследуемым объектом) и модельные (модель замещает объект исследования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одельные делятся на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ысленные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(умственные, воображаемые) и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атериальные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(реальные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периментальное изучение объектов по сравнению с наблюдением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меет ряд преимущест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оцессе эксперимента становится возможным изучение того или иного явления в "чистом виде"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перимент позволяет исследовать свойства объектов действительности в экстремальных услови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413000"/>
            <a:ext cx="77151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— метод научного познания, сущность которого заключается в замене изучаемого предмета или явления специальной аналогичной моделью (объектом), содержащей существенные черты оригинал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им образом, вместо оригинала (интересующего нас объекта) эксперимент проводят на модели (другом объекте), а результаты исследования распространяют на оригина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125000"/>
            <a:ext cx="785988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entury Schoolbook"/>
              </a:rPr>
              <a:t>Модели бывают физические и математическ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ответствии с этим различают физическое и математическое моделирование. Если модель и оригинал одинаковой физической природы, то применяют физическое моделиро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атематическая модель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это математическая абстракция, характеризующая физический, биологический, экономический или какой-либо другой процесс. Математические модели при различной физической природе основаны на идентичности математического описания процессов, происходящих в них и в оригинал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атематическое модел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метод исследования сложных процессов на основе широкой физической аналогии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одель и ее оригинал описываются тождественными уравнениям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ная особенность и достоинство данного метода — возможность применять его к отдельным участкам сложной системы, а также количественно исследовать явления, трудно поддающиеся изучению на физических модел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197000"/>
            <a:ext cx="807552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000" spc="-1" strike="noStrike">
                <a:solidFill>
                  <a:srgbClr val="00b0f0"/>
                </a:solidFill>
                <a:latin typeface="Century Schoolbook"/>
              </a:rPr>
              <a:t>это один из главных методов научного исследования, с помощью которого можно ускорить существующие технологические процессы, сократить сроки освоения новых. Этот метод применяют при изучении различных технологий, режимов работы аппаратов, машин, агрегатов, промышленных комплексов и хозяйств, а также в управлении предприятиями, распределении материальных ресурсов и т. 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ажен еще один аспект метода моделирован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Если для обычного эксперимента характерно непосредственное взаимодействие с объектом исследования, то в моделировании такого взаимодействия нет, так как изучают не сам объект, а его заменитель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Примером может служить аналоговая вычислительная машина, действие которой основано на аналогии дифференциальных уравнений, описывающих свойства как исследуемого объекта, так и электронной моде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3. 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альные методы исследования используются только в какой-нибудь одной отрасли и научного знания либо их применение ограничивается несколькими узкими областями зн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, к специальным методам относятся конкретно-социологические мето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кретно-социологические методы основаны на применении методов конкретной социологии для изучения социальных явлений. Конкретно-социологические исследования — это научное изучение, анализ и систематизация социальных фактов, явлений и процессов, относящихся к различным сферам жизни обще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методам конкретно-социологического исследования, применяемым в социально-экономических науках, относятся изучение документов (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окументальный метод), опросы в форме анкетирования и интервью, метод экспертных оценок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 социологи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еляют метод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гистрации единичных событий (наблюдение, опрос, изучение документов и т. д.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бора данных (сплошное, выборочное или монографическое обследование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ботки и анализа данных (описание и классификация, типологизация, системный анализ, статистический анализ и т. д.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Изучение док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документальный метод). Документ — это объект исследования, содержащий информацию на любом материальном носителе (бумаге, магнитной ленте, дискете и др.) при помощи какой-либо знаковой систем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уществуют различные классификации докумен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общей значимости документы можно разделить на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фициальные и неофициальные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фициальные документы имеют "служебный" характер, поскольку они составлены государственными и муниципальными органами и учреждениями, коммерческими и некоммерческими организация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 неофициальным относятся в основном личные документы, касающиеся жизни и деятельности лица или группы лиц (письма, автобиографии, мемуары, речи, дневники и пр.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ОЛОГ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онечном счете философы и экономисты п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ей научного исследования понимают </a:t>
            </a:r>
            <a:r>
              <a:rPr b="1" lang="ru-RU" sz="2400" spc="-1" strike="noStrike" u="sng">
                <a:solidFill>
                  <a:srgbClr val="00b0f0"/>
                </a:solidFill>
                <a:uFillTx/>
                <a:latin typeface="Century Schoolbook"/>
              </a:rPr>
              <a:t>учение о методах (методе) познания, т. е. о системе принципов, правил, способов и приемов, предназначенных для успешного решения познавательных задач.</a:t>
            </a:r>
            <a:r>
              <a:rPr b="0" lang="ru-RU" sz="2400" spc="-1" strike="noStrike" u="sng">
                <a:solidFill>
                  <a:srgbClr val="00b0f0"/>
                </a:solidFill>
                <a:uFillTx/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, методология экономической науки может быть определена как учение о методах исследования применяемых в этой отрасли нау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ументы, какими бы достоверными они на первый взгляд ни казались, требуют к себе критического отношения, поскольку содержащиеся в них сведения могут быть неверными, неполными. Поэтому документ следует проанализировать, ответив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то он представляет собой по виду и форм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ова подлинность текста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то его автор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ремя, место и обстоятельства возникновения документа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ова достоверность содержащихся в нем сведений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сколько полна закрепленная в документе информация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)каковы цели создания документа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изучении документов может быть использован количественный метод, называемый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онтент-анализом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го суть заключается в выделении в изучаемом документе определенных признаков (единиц анализа), подсчете их количества и определении частоты употребления таких признаков в общем объеме имеющейся информации или в общем количестве изученных докумен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ндикаторами, т. е. конкретными указателями на присутствие единиц анализа в документе, могут быть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потребленные в тексте понятия, события, наименования, имена собственные, устойчивые словосочета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дложения (утверждения, вопросы, оценки и т. п.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вокупность высказываний на определенную тем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ля количественного анализа составляют вопросник, содержащий набор вопросов на определенную тему, ответы на которые могут быть получены из документ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ое значение в сборе первичной информации со слов опрашиваемого имеет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етод опрос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опроса может про-изводиться заочно путем распространения, сбора и обработки анкет (анкетирования) либо очно, в форме беседы с опрашиваемым лицом. Эти методы широко используются, например, при изучении положения товарного рынка по следующим параметрам: количество и качество товара, конкурентоспособность товара, ассортимент продукции на торговом предприя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Интервью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— это беседа исследователя с респондентом по определенному плану. Интервью может проводить сам исследователь или его помощники. Исследователь, пользуясь вопрос­ником, планом, бланком или карточкой, задает вопросы, направляет беседу, фиксирует ответы опрашиваемы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нтервью может быть стандартизированным или свободны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тандартизированное интервью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уществляется по закрытым вопросам, и исследователю остается лишь пометить от­вет подчеркиванием, крестиком либо записать его в балльной системе (1, 2, 3 и т. д.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вободное интервью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это беседа с респондентом по определенному кругу вопросов, по которым ему предоставляется свобода отве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етод экспертных оценок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ключается в изучении мне­ния специалистов, обладающих глубокими знаниями и практическим опытом в определенной сфере. В качестве экспертов отбираются как научные, так и практические работники (не более 20— 30 человек). Для определения их компетентности применяются следующие способ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вристический (интуитивные оценки, даваемые самими экспертами друг друг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атистический (оценки, полученные путем анализа суждений экспертов по изучаемому вопрос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стовый (оценки, полученные путем тестовых испытаний экспертов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ументальный (оценки, полученные путем изучения материалов, характеризующих экспертов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мбинированный (оценки, полученные с использованием нескольких из перечисленных способов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татистическая сводк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оит в том, что содержащиеся и анкетах, карточках и других материалах сведения систематизируются, сводятся в статистические совокупности и обозначаются обобщающими показателями (абсолютными числами, процентами и т. д.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ИМЕЮТСЯ СЛЕДУЮЩИЕ УРОВНИ МЕТОДОЛОГИ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еобщая методолог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торая является универсальной по отношению ко всем наукам и в ее содержание входят философские и общенаучные методы позн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астная метод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учных исследований для группы родственных наук, которую образуют всеобщие, общенаучные и частные методы позн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учных исследований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кретной нау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в содержание которой включаются всеобщие, общенаучные, частные и специальные методы позн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КЛАССИФИКАЦИЯ МЕТ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413000"/>
            <a:ext cx="78598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b0f0"/>
                </a:solidFill>
                <a:latin typeface="Century Schoolbook"/>
              </a:rPr>
              <a:t>В зависимости от содержания изучаемых объектов различают</a:t>
            </a:r>
            <a:r>
              <a:rPr b="0" lang="ru-RU" sz="2200" spc="-1" strike="noStrike">
                <a:solidFill>
                  <a:srgbClr val="00b0f0"/>
                </a:solidFill>
                <a:latin typeface="Century Schoolbook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ы естествозн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ы социально-гуманитарного исслед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b0f0"/>
                </a:solidFill>
                <a:latin typeface="Century Schoolbook"/>
              </a:rPr>
              <a:t>Методы исследования классифицируют </a:t>
            </a:r>
            <a:r>
              <a:rPr b="1" lang="ru-RU" sz="2200" spc="-1" strike="noStrike">
                <a:solidFill>
                  <a:srgbClr val="00b0f0"/>
                </a:solidFill>
                <a:latin typeface="Century Schoolbook"/>
              </a:rPr>
              <a:t>по отраслям науки</a:t>
            </a:r>
            <a:r>
              <a:rPr b="0" lang="ru-RU" sz="2200" spc="-1" strike="noStrike">
                <a:solidFill>
                  <a:srgbClr val="00b0f0"/>
                </a:solidFill>
                <a:latin typeface="Century Schoolbook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атемат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иолог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едицин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циально-эконом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авовые и т. 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КЛАССИФИКАЦИЯ МЕТ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413000"/>
            <a:ext cx="8002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зависимости от уровня познания выделяют </a:t>
            </a:r>
            <a:r>
              <a:rPr b="1" lang="ru-RU" sz="2400" spc="-1" strike="noStrike">
                <a:solidFill>
                  <a:srgbClr val="00b0f0"/>
                </a:solidFill>
                <a:latin typeface="Century Schoolbook"/>
              </a:rPr>
              <a:t>методы эмпирического и теоретического уровн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методам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мпирического уров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тносят наблюдение, описание, сравнение, счет, измерение, анкетный опрос, собеседование, тестирование, эксперимент, моделиро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методам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оретического уров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ричисляют аксиоматический, гипотетический (гипотетико-дедуктивный), формализацию, абстрагирование, общелогические методы (анализ, синтез, индукцию, дедукцию, аналогию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КЛАССИФИКАЦИЯ МЕТ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41000"/>
            <a:ext cx="8002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зависимости </a:t>
            </a:r>
            <a:r>
              <a:rPr b="1" lang="ru-RU" sz="2400" spc="-1" strike="noStrike">
                <a:solidFill>
                  <a:srgbClr val="00b0f0"/>
                </a:solidFill>
                <a:latin typeface="Century Schoolbook"/>
              </a:rPr>
              <a:t>от сферы применения и степени общности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личают метод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сеобщи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философские), действующие во всех науках и на всех этапах позна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бщенаучные,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которые могут применяться в гуманитарных, естественных и технических науках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циа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— для конкретной науки, области научного позн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4:04:15Z</dcterms:created>
  <dc:creator>NICH</dc:creator>
  <dc:description/>
  <dc:language>en-US</dc:language>
  <cp:lastModifiedBy>Admin</cp:lastModifiedBy>
  <dcterms:modified xsi:type="dcterms:W3CDTF">2021-11-08T11:12:52Z</dcterms:modified>
  <cp:revision>36</cp:revision>
  <dc:subject/>
  <dc:title>МЕТОДЫ И МЕТОДОЛОГИЯ НАУЧНОГО ИССЛЕДОВАНИЯ</dc:title>
</cp:coreProperties>
</file>